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437-384A-4640-B7B4-70BF773B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12F-CD8E-4E67-93EE-AF8100EC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C74-46F2-4F4B-A2BD-ADFC05BB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5B8-565D-4C3D-B664-A280B488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E9F0-9E49-4FD2-9A08-FC592500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960C-13BA-47B0-A1EA-7C3580B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F24-536D-405B-B4DB-E2069A78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58E-2565-47B5-AE22-3AFDBC5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0A1B-C775-4010-B6DE-FC11E3A8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F0C2-69F6-4E02-97B9-42A01A1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1FC0-F190-4012-8736-44B71D8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791-9499-4531-8035-CBEEFEB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A881-7C06-4C2D-B27C-1A9C815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AE5-7AC5-4FD8-BA13-4FF4C74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7DB-98E3-4734-8E94-D68955C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69DF-D008-413B-AAC0-1F900B8A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9345-E03C-4FEC-B7AF-6F46A613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CD3-B61A-4423-B09D-DC44CDB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5B5-9A64-4287-B648-7F94F0A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605-3A48-4258-9D2F-DFE7F6A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9EB-368D-48C0-B011-7D16431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9AC-12C0-4786-BAD5-712111B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45D-E9A3-427C-84C8-B6FAA44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7E4-F38C-49AE-A528-1CE6E2E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9972-2EBE-428D-9577-2FA019FFBF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E0C-200E-4E83-9C81-07C66E767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onal Responsibility and  Decision Making 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 Taking Responsibility for Y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ll Ac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’s your responsibility,” what does this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t least 5 statements in response to th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: I have to make a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dependable and rel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aking Responsibility for Your Ac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ponsibility- is the ability to make choices and to accept the results of thos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2:18:17Z</dcterms:created>
  <dc:creator>GSCS</dc:creator>
  <dc:description/>
  <dc:language>en-US</dc:language>
  <cp:lastModifiedBy>GSCS</cp:lastModifiedBy>
  <dcterms:modified xsi:type="dcterms:W3CDTF">2011-09-09T16:33:26Z</dcterms:modified>
  <cp:revision>8</cp:revision>
  <dc:subject/>
  <dc:title>Slide 1</dc:title>
</cp:coreProperties>
</file>